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FB54-E822-4624-A68A-74DA378F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E748-0D93-4CC0-AA58-AD765E1E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FF39-B8B7-48CB-967C-06DF47BB9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8944-80AD-40AF-80BF-C3073157E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2FC0-8802-4B7E-BABF-1DC8175DC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A5A1-8BE2-475E-8F47-0B289645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AC40-ABA2-4A74-8280-090DBF6C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4CA0-95A0-4376-9D85-799577A8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478A-C7DF-4FA8-B6F8-331D8BEE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04D0-AF86-4A89-BA4B-36D9011A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5A45-C305-4680-B8BE-7DA9D9B8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F4C0-25B0-4B25-940A-BF9A7C5A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1A0D-E15F-4503-A35A-65B3219A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924B-5849-4C5D-9E49-C040111E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D5FF-98BA-4A53-BBF8-8766BE48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3753-67FA-4F94-99F8-797D7A57A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79B6-C08E-46A3-9787-28AB1300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2182-A9B0-4634-9813-CB2C69AE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61D6-0BA3-4930-A58C-AA4574D7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42C1-7991-4F39-B2B6-40AF8D6C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9078-8CD3-4FAA-B9FD-5842212D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1789-315D-4CDA-A3B8-81120D42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9068-F9EF-40B2-ACFB-D6CEEB6C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806D-C1AA-47AD-96E2-A71D7ABA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8925-F048-4FAD-8E5E-79ACB36E2A22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364F-25E8-4CB3-BCE3-B8B080C6B68C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0"/>
            <a:ext cx="2268360" cy="692280"/>
          </a:xfrm>
          <a:prstGeom prst="rect">
            <a:avLst/>
          </a:prstGeom>
          <a:gradFill rotWithShape="0">
            <a:gsLst>
              <a:gs pos="0">
                <a:srgbClr val="666699"/>
              </a:gs>
              <a:gs pos="50000">
                <a:srgbClr val="666699"/>
              </a:gs>
              <a:gs pos="100000">
                <a:srgbClr val="666699"/>
              </a:gs>
            </a:gsLst>
            <a:lin ang="10800000"/>
          </a:gra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Arial"/>
                <a:ea typeface="隶书"/>
              </a:rPr>
              <a:t>礼让，和谐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7960" y="360000"/>
            <a:ext cx="789840" cy="42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方正舒体"/>
              </a:rPr>
              <a:t>造文明社会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744680" y="591840"/>
            <a:ext cx="789840" cy="40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当 文 明 人！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20000" y="0"/>
            <a:ext cx="2124000" cy="692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Arial"/>
                <a:ea typeface="隶书"/>
              </a:rPr>
              <a:t>互助，温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340000" y="260280"/>
            <a:ext cx="6804000" cy="61675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66120" y="260280"/>
            <a:ext cx="1399320" cy="59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此情此境，你感受如何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4960" y="333360"/>
            <a:ext cx="6035760" cy="6191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630120" y="836640"/>
            <a:ext cx="139932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损人利己，没素质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26920" y="1052640"/>
            <a:ext cx="7274160" cy="48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195640" y="0"/>
            <a:ext cx="6697440" cy="6597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94480" y="549360"/>
            <a:ext cx="13993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礼让三分，命长久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325080" cy="6987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 rot="900000">
            <a:off x="3058920" y="476280"/>
            <a:ext cx="4968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一滴水折射太阳的光辉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77336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幼圆"/>
              </a:rPr>
              <a:t>一个细节反映一个人的品质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2781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隶书"/>
              </a:rPr>
              <a:t>你的行为能反映出你有优秀的品质吗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320" y="1904760"/>
            <a:ext cx="815796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觉投币“公交”，前上后下有秩序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900680" y="260280"/>
            <a:ext cx="4243320" cy="2687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39640" y="333360"/>
            <a:ext cx="3889440" cy="2808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39840" y="3490920"/>
            <a:ext cx="365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900000" y="3860640"/>
            <a:ext cx="3527640" cy="2233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5076720" y="3716280"/>
            <a:ext cx="367200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3456000" cy="2808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5148360" y="692280"/>
            <a:ext cx="3744720" cy="2371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539640" y="4005360"/>
            <a:ext cx="3672000" cy="2325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5076720" y="4005360"/>
            <a:ext cx="324036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3744720" cy="2372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716360" y="333360"/>
            <a:ext cx="414036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-819000"/>
            <a:ext cx="9753480" cy="7677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11280" y="404640"/>
            <a:ext cx="7667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63ec2"/>
                </a:solidFill>
                <a:latin typeface="Arial"/>
                <a:ea typeface="隶书"/>
              </a:rPr>
              <a:t>勿以恶小而为之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63ec2"/>
                </a:solidFill>
                <a:latin typeface="Arial"/>
                <a:ea typeface="隶书"/>
              </a:rPr>
              <a:t>勿以善小而不为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28400" y="266760"/>
            <a:ext cx="237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隶书"/>
              </a:rPr>
              <a:t>他律－－自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隶书"/>
              </a:rPr>
              <a:t>慎笃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24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0" y="0"/>
            <a:ext cx="2195640" cy="10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1332000" cy="981000"/>
          </a:xfrm>
          <a:custGeom>
            <a:avLst/>
            <a:gdLst>
              <a:gd name="textAreaLeft" fmla="*/ 312840 w 1332000"/>
              <a:gd name="textAreaRight" fmla="*/ 1018080 w 1332000"/>
              <a:gd name="textAreaTop" fmla="*/ 115200 h 981000"/>
              <a:gd name="textAreaBottom" fmla="*/ 615240 h 981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d81e3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82680" y="0"/>
            <a:ext cx="668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隶书"/>
              </a:rPr>
              <a:t>文明学生做到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隶书"/>
              </a:rPr>
              <a:t>十  个  一，五  个  无，三  个  轻  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71640" y="1413000"/>
            <a:ext cx="69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十个一”是一次网吧不去，一次打骂不沾，一句谎言不说，一个脏物不扔，一件公物不损，一点他物不拿，一次烟酒不沾，一次荣誉不丢，一分一秒不舍，一角一分不费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五个无”是身边无废纸，周围无痰迹，桌面无刻画，墙面无脚印、球印，出言无脏话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 “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三个轻轻”是说话轻轻，走路轻轻，举止轻轻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1557360"/>
            <a:ext cx="431640" cy="576360"/>
          </a:xfrm>
          <a:prstGeom prst="star5">
            <a:avLst/>
          </a:prstGeom>
          <a:solidFill>
            <a:srgbClr val="d81e3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4005360"/>
            <a:ext cx="431640" cy="431640"/>
          </a:xfrm>
          <a:prstGeom prst="star5">
            <a:avLst/>
          </a:prstGeom>
          <a:solidFill>
            <a:srgbClr val="d81e3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5373720"/>
            <a:ext cx="574560" cy="576360"/>
          </a:xfrm>
          <a:prstGeom prst="star5">
            <a:avLst/>
          </a:prstGeom>
          <a:solidFill>
            <a:srgbClr val="d81e3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中国是个文明古国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中华民族素有礼仪之邦之美誉，作为炎黄子孙，我们不但要承袭优良的文明传统，更要将这种文化发扬光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伟大的教育家孔子说过：“己所不欲，勿施于人”，孟子说：“老吾老，以及人之老；幼吾幼，以及人之幼”。由此可见，古人对“礼”是非常注重的，我们不妨扪心自问一下，古人尚能如此，作为进步的现代人我们又该怎样呢？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自尊自爱，注重仪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华文行楷"/>
              </a:rPr>
              <a:t>教育家孔子要求他的学生站立有样，彬彬有礼。荀子也说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华文行楷"/>
              </a:rPr>
              <a:t>:“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华文行楷"/>
              </a:rPr>
              <a:t>人无礼而不坐，事无礼而不成，国无礼而不宁。”中国是礼仪之邦，我们应传承文明，提高自身素质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我们共同生活在社会大家庭，每天要与很多人接触，造就了不少文明礼貌。倘若我们都不讲文明，撞到了别人不道歉，反骂别人没长眼睛，别人帮了你的忙不说谢谢，反怪别人多管闲事，逢人便叫喂，反美其名曰：“新潮”，那时我们的社会会变成什么样子？哪里还说得上公民的良好素质？哪里说得上中国人民大团结，哪里还说得上社会主义精神文明建设的成就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同学们，我们是祖国的未来和希望，是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世纪社会主义精神文明的劲军，我们更应该增强公民素质，自觉遵纪守法，让自己成为讲公德、守法纪的文明人，让我们的祖国充满灿烂的阳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9468000" cy="72788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39640" y="549360"/>
            <a:ext cx="259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隶书"/>
              </a:rPr>
              <a:t>让我们共同努力，创作文明社会，当文明人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40464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bf7ff"/>
                </a:solidFill>
                <a:latin typeface="Arial"/>
                <a:ea typeface="隶书"/>
              </a:rPr>
              <a:t>黑夜给了我黑色的眼睛，我却用它寻找</a:t>
            </a:r>
            <a:r>
              <a:rPr b="1" lang="zh-CN" sz="3200" spc="-1" strike="noStrike">
                <a:solidFill>
                  <a:srgbClr val="b0db25"/>
                </a:solidFill>
                <a:latin typeface="Arial"/>
                <a:ea typeface="隶书"/>
              </a:rPr>
              <a:t>“文明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16286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bf7ff"/>
                </a:solidFill>
                <a:latin typeface="Arial"/>
                <a:ea typeface="隶书"/>
              </a:rPr>
              <a:t>讨论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隶书"/>
              </a:rPr>
              <a:t>：</a:t>
            </a:r>
            <a:r>
              <a:rPr b="1" lang="zh-CN" sz="3200" spc="-1" strike="noStrike">
                <a:solidFill>
                  <a:srgbClr val="b0db25"/>
                </a:solidFill>
                <a:latin typeface="Arial"/>
                <a:ea typeface="隶书"/>
              </a:rPr>
              <a:t>我们身边有哪些不文明的现象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56000" y="0"/>
            <a:ext cx="6588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21040" y="333360"/>
            <a:ext cx="1277640" cy="58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你觉得这样的行为恶心吗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39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5976720" cy="6048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455600" y="-834480"/>
            <a:ext cx="789840" cy="83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明知故犯的行为，可恨吗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37236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701760" y="620640"/>
            <a:ext cx="13993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强不让弱非好汉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63640" y="1197000"/>
            <a:ext cx="5688000" cy="5005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58760" y="609480"/>
            <a:ext cx="60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缺德行为，害人不浅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58760" y="609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473200" y="0"/>
            <a:ext cx="66708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50120" y="189000"/>
            <a:ext cx="139932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黑运当头，谁最缺德？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26920" y="260280"/>
            <a:ext cx="6913800" cy="4932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5373720"/>
            <a:ext cx="50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你  有  何  话  说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2:02:11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0:48:52Z</dcterms:modified>
  <cp:revision>19</cp:revision>
  <dc:subject>主题班会课件(分28大类): http://shop62905894.taobao.com</dc:subject>
  <dc:title>主题班会课件(分28大类): http://shop62905894.taobao.com</dc:title>
</cp:coreProperties>
</file>